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CD4C-892E-4715-9D64-543916F02DA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s Páginas de nota são páginas impressas que apresentam as notas do autor debaixo do diaposi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Este modo de visualização serve para acrescentar apontamentos sobre o conteúdo do Diapositivo. Para facilitar apresentação  ou lembrar informação a dizer á audiê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s de criar a apresentação acrescente todas as notas que lhe sejam úteis a cada diapositivo, imprima as páginas de n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4B04-FCA2-4B19-B4B7-EEBF571B4D9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454-6BCE-42E6-AD73-F958B41A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A1C3-3C58-4D9F-AE27-0A68815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264-5B79-4547-B755-CE01C338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3A2-64D6-4D9C-A48F-4C5711E5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A1A-066A-4C3A-AC39-0E632591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83F-0778-4B3B-B330-7DCC6BB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414-3467-4A59-A275-3EAC2AD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F76-50AC-4CC0-9A82-C5AC1295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914-39DA-4318-8EB7-BE675372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8A6-764E-47DA-8A60-A1DAF75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46F-69B7-4007-930B-E76C7075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D3C-640A-4416-9229-A2DDA52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10B-043A-4213-9FBB-35AAE7CAA340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MegaExpansão - Técnico Informático de Sis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85880" y="31428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98989"/>
                </a:solidFill>
                <a:latin typeface="Calibri"/>
              </a:rPr>
              <a:t>Utilitário Gráfico: Microsof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Century Gothic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é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dor gráfico, que permite fazer apresentações multimédia no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ção de diapositivos ( Slide S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 atractiva de comun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nimação de textos e obj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podemos fazer com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ões dinâmicas em ecr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transparências para project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diagramas poderosos e dinâ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 gráfic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temas personalizados para montar apresentações mais rapidam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ão compactada em 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um trabalho de modo  atraente e cativante ao públ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riação de uma Apresentação a partir de um tema pré-defin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28800" y="37879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a estrutura de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 esquema d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dicionar diaposi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ntroduzir 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tex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tar t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bjectivos de um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642760"/>
            <a:ext cx="7772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dentificar o Assunto d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s objectivos desse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sumir as ideias-c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lanifica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senvolve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oncluir e resumi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Regras para elaborar 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s textos apresentados não devem ser lidos pelo apresentad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lustrar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linguagem simples e objec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dados que fundamentam a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Manter unidade gráf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apresentar demasiados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usar a animação só para obter a aten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Normas para composição equilibrada do diapos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1430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ão deve apresentar ,muitas imagens, tabelas ou </a:t>
            </a:r>
            <a:r>
              <a:rPr b="0" lang="pt-PT" sz="3200" spc="-1" strike="noStrike" u="sng">
                <a:solidFill>
                  <a:srgbClr val="000000"/>
                </a:solidFill>
                <a:uFillTx/>
                <a:latin typeface="Calibri"/>
              </a:rPr>
              <a:t>blocos de textos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que encham o 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rases breves, directas, e de compreensão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tenção às gralhas ortográ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um tipo de letra de fácil lei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cores fáceis de visualiz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 composição gráfica é importante para o sucesso da noss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s estruturas pré-definidas do PowerPoint cumprem as normas para uma bo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Se apresentação for agradável esteticamente e de leitura acessível a todo o público, conseguimos cativar o público/ espectador e a nossa mensagem é transmitida com sucess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4:25:37Z</dcterms:created>
  <dc:creator>PC</dc:creator>
  <dc:description/>
  <dc:language>en-US</dc:language>
  <cp:lastModifiedBy>PC</cp:lastModifiedBy>
  <dcterms:modified xsi:type="dcterms:W3CDTF">2009-09-10T14:59:52Z</dcterms:modified>
  <cp:revision>9</cp:revision>
  <dc:subject/>
  <dc:title>MegaExpansão - Técnico Informático de Sistemas</dc:title>
</cp:coreProperties>
</file>